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9FB8-857E-43BF-AFE6-125B9D68E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BB9-8271-4560-9919-C76CDBFD2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E4B1-9C9C-46EB-A5E8-835699521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6D7-5B00-45C4-A8D7-F1358241A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05D-C832-4ECD-B3DC-FDECC27A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F3B-DD72-4BE4-9F50-131E12B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ABF-F6E2-4D5C-9AD3-62490D30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5B0-CF79-4A07-B86A-56D8871D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75-C325-41C3-B463-F648208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473-ADAA-40E7-BF3F-B979F13E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EBC-9764-487B-A3D4-39F5ACA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5E3-B1B2-4AD0-A358-7B2F492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7F8-9A2B-46B3-A413-D99BB20D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4D4-1EEC-4CE5-A0D3-024E06D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EB5-746F-4FC2-94D6-FDC684F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56F-BC7F-46EA-BE0C-4F6022D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655-9DCF-42AA-9FAF-967B03C1D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estnikk.ru/uploads/posts/2010-06/slon.jpg" TargetMode="External"/><Relationship Id="rId2" Type="http://schemas.openxmlformats.org/officeDocument/2006/relationships/hyperlink" Target="http://shkola.ostriv.in.ua/images/publications/4/14411/1355755132.jpg" TargetMode="External"/><Relationship Id="rId3" Type="http://schemas.openxmlformats.org/officeDocument/2006/relationships/hyperlink" Target="http://vospitatel.com.ua/images/krot5.jpg" TargetMode="External"/><Relationship Id="rId4" Type="http://schemas.openxmlformats.org/officeDocument/2006/relationships/hyperlink" Target="http://img32.vkrugudruzei.ru/images/119/849/24/29726f3a3f1346e69624689c37ac56f2_med.jpg" TargetMode="External"/><Relationship Id="rId5" Type="http://schemas.openxmlformats.org/officeDocument/2006/relationships/hyperlink" Target="http://katyaburg.ru/sites/default/files/pictures/zabavnie_jivotnie/volk_volki_kartinki_foto_04-3.jpg" TargetMode="External"/><Relationship Id="rId6" Type="http://schemas.openxmlformats.org/officeDocument/2006/relationships/hyperlink" Target="http://img.amigos.lv/img/qna_a/0/34/6540/w8FKVRvqMyZo8Gfda.jpeg" TargetMode="External"/><Relationship Id="rId7" Type="http://schemas.openxmlformats.org/officeDocument/2006/relationships/hyperlink" Target="http://fomchenkov.ru/photogallery/00147big_makro.jpg" TargetMode="External"/><Relationship Id="rId8" Type="http://schemas.openxmlformats.org/officeDocument/2006/relationships/hyperlink" Target="http://kamchatsky-krai.ru/bear/i/103_1.jpg" TargetMode="External"/><Relationship Id="rId9" Type="http://schemas.openxmlformats.org/officeDocument/2006/relationships/hyperlink" Target="http://upload.wikimedia.org/wikipedia/commons/thumb/4/48/Aedes_aegypti_biting_human.jpg/275px-Aedes_aegypti_biting_human.jpg" TargetMode="External"/><Relationship Id="rId10" Type="http://schemas.openxmlformats.org/officeDocument/2006/relationships/hyperlink" Target="http://zhivayapriroda.ru/images/fauna/flamingo.jpg" TargetMode="External"/><Relationship Id="rId11" Type="http://schemas.openxmlformats.org/officeDocument/2006/relationships/hyperlink" Target="http://img0.liveinternet.ru/images/attach/c/3/75/464/75464940_morzh.jpg" TargetMode="External"/><Relationship Id="rId12" Type="http://schemas.openxmlformats.org/officeDocument/2006/relationships/hyperlink" Target="http://vladnews.ru/thumb.php?file=/uploads/2010/11/09/626.jpg&amp;x_width=240" TargetMode="External"/><Relationship Id="rId13" Type="http://schemas.openxmlformats.org/officeDocument/2006/relationships/hyperlink" Target="http://murzim.ru/uploads/posts/2010-12/1292447266_image037.jpg" TargetMode="External"/><Relationship Id="rId14" Type="http://schemas.openxmlformats.org/officeDocument/2006/relationships/hyperlink" Target="http://facepla.net/images/stories2/443/14_animals_to_resurrect/14_animals_to_resurrect_11.jpg" TargetMode="External"/><Relationship Id="rId15" Type="http://schemas.openxmlformats.org/officeDocument/2006/relationships/hyperlink" Target="http://natureworld.ru/misc/archeo/arch_animals/archaeo_animals_09.jpg" TargetMode="External"/><Relationship Id="rId16" Type="http://schemas.openxmlformats.org/officeDocument/2006/relationships/hyperlink" Target="http://www.koipkro.kostroma.ru/Sharya/shool7/DocLib74/013.gif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646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ши любимы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омова Елена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РК  «Республиканский  центр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П «РДБ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570120"/>
            <a:ext cx="3348000" cy="32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431120" y="4646520"/>
            <a:ext cx="17128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 кого уши на ног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9"/>
          <p:cNvSpPr/>
          <p:nvPr/>
        </p:nvSpPr>
        <p:spPr>
          <a:xfrm>
            <a:off x="2916360" y="155736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абочек и 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2-конечная звезда 9"/>
          <p:cNvSpPr/>
          <p:nvPr/>
        </p:nvSpPr>
        <p:spPr>
          <a:xfrm>
            <a:off x="2987640" y="314172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ух и ком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-конечная звезда 9"/>
          <p:cNvSpPr/>
          <p:nvPr/>
        </p:nvSpPr>
        <p:spPr>
          <a:xfrm>
            <a:off x="305928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знечиков и свер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0" y="3786120"/>
            <a:ext cx="288756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то самый крупный из наземных млекопитающи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3929040"/>
            <a:ext cx="2714760" cy="2960640"/>
          </a:xfrm>
          <a:prstGeom prst="rect">
            <a:avLst/>
          </a:prstGeom>
          <a:ln w="0">
            <a:noFill/>
          </a:ln>
        </p:spPr>
      </p:pic>
      <p:sp>
        <p:nvSpPr>
          <p:cNvPr id="93" name="12-конечная звезда 9"/>
          <p:cNvSpPr/>
          <p:nvPr/>
        </p:nvSpPr>
        <p:spPr>
          <a:xfrm>
            <a:off x="284328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й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-конечная звезда 9"/>
          <p:cNvSpPr/>
          <p:nvPr/>
        </p:nvSpPr>
        <p:spPr>
          <a:xfrm>
            <a:off x="2987640" y="328464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-конечная звезда 9"/>
          <p:cNvSpPr/>
          <p:nvPr/>
        </p:nvSpPr>
        <p:spPr>
          <a:xfrm>
            <a:off x="298764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ем, игра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3252960"/>
            <a:ext cx="3286080" cy="36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кончите  фраз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, как 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дный , как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ямый 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хает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лапый , как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ит , как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olk_volki_kartinki_foto_04-3"/>
          <p:cNvPicPr/>
          <p:nvPr/>
        </p:nvPicPr>
        <p:blipFill>
          <a:blip r:embed="rId1"/>
          <a:stretch/>
        </p:blipFill>
        <p:spPr>
          <a:xfrm>
            <a:off x="5003640" y="170028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0147big_makro"/>
          <p:cNvPicPr/>
          <p:nvPr/>
        </p:nvPicPr>
        <p:blipFill>
          <a:blip r:embed="rId2"/>
          <a:stretch/>
        </p:blipFill>
        <p:spPr>
          <a:xfrm>
            <a:off x="5796000" y="3789360"/>
            <a:ext cx="158436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5" descr="103_1"/>
          <p:cNvPicPr/>
          <p:nvPr/>
        </p:nvPicPr>
        <p:blipFill>
          <a:blip r:embed="rId3"/>
          <a:stretch/>
        </p:blipFill>
        <p:spPr>
          <a:xfrm>
            <a:off x="6300720" y="4724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275px-Aedes_aegypti_biting_human"/>
          <p:cNvPicPr/>
          <p:nvPr/>
        </p:nvPicPr>
        <p:blipFill>
          <a:blip r:embed="rId4"/>
          <a:stretch/>
        </p:blipFill>
        <p:spPr>
          <a:xfrm>
            <a:off x="6659640" y="5734080"/>
            <a:ext cx="158436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5"/>
          <a:stretch/>
        </p:blipFill>
        <p:spPr>
          <a:xfrm>
            <a:off x="0" y="45007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w8FKVRvqMyZo8Gfda"/>
          <p:cNvPicPr/>
          <p:nvPr/>
        </p:nvPicPr>
        <p:blipFill>
          <a:blip r:embed="rId6"/>
          <a:stretch/>
        </p:blipFill>
        <p:spPr>
          <a:xfrm>
            <a:off x="5364000" y="2708280"/>
            <a:ext cx="1513080" cy="82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29726f3a3f1346e69624689c37ac56f2_med"/>
          <p:cNvPicPr/>
          <p:nvPr/>
        </p:nvPicPr>
        <p:blipFill>
          <a:blip r:embed="rId7"/>
          <a:stretch/>
        </p:blipFill>
        <p:spPr>
          <a:xfrm>
            <a:off x="4716360" y="650880"/>
            <a:ext cx="1616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згадайте, какие животные зашифрованы в ребуса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ебусы про животных"/>
          <p:cNvPicPr/>
          <p:nvPr/>
        </p:nvPicPr>
        <p:blipFill>
          <a:blip r:embed="rId1"/>
          <a:stretch/>
        </p:blipFill>
        <p:spPr>
          <a:xfrm>
            <a:off x="1428840" y="2000160"/>
            <a:ext cx="242568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Ребусы про животных"/>
          <p:cNvPicPr/>
          <p:nvPr/>
        </p:nvPicPr>
        <p:blipFill>
          <a:blip r:embed="rId2"/>
          <a:stretch/>
        </p:blipFill>
        <p:spPr>
          <a:xfrm>
            <a:off x="1476360" y="4429080"/>
            <a:ext cx="237492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ебусы про животных в картинках"/>
          <p:cNvPicPr/>
          <p:nvPr/>
        </p:nvPicPr>
        <p:blipFill>
          <a:blip r:embed="rId3"/>
          <a:stretch/>
        </p:blipFill>
        <p:spPr>
          <a:xfrm>
            <a:off x="5572080" y="4286160"/>
            <a:ext cx="28162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05d6ee59ca9a1a40962e29296823240d"/>
          <p:cNvPicPr/>
          <p:nvPr/>
        </p:nvPicPr>
        <p:blipFill>
          <a:blip r:embed="rId4"/>
          <a:stretch/>
        </p:blipFill>
        <p:spPr>
          <a:xfrm>
            <a:off x="1428840" y="40719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4243290_160x120"/>
          <p:cNvPicPr/>
          <p:nvPr/>
        </p:nvPicPr>
        <p:blipFill>
          <a:blip r:embed="rId5"/>
          <a:stretch/>
        </p:blipFill>
        <p:spPr>
          <a:xfrm>
            <a:off x="1428840" y="1714680"/>
            <a:ext cx="29304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yl005-150x150"/>
          <p:cNvPicPr/>
          <p:nvPr/>
        </p:nvPicPr>
        <p:blipFill>
          <a:blip r:embed="rId6"/>
          <a:stretch/>
        </p:blipFill>
        <p:spPr>
          <a:xfrm>
            <a:off x="5572080" y="4071960"/>
            <a:ext cx="278604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Ребусы про животных"/>
          <p:cNvPicPr/>
          <p:nvPr/>
        </p:nvPicPr>
        <p:blipFill>
          <a:blip r:embed="rId7"/>
          <a:stretch/>
        </p:blipFill>
        <p:spPr>
          <a:xfrm>
            <a:off x="5715000" y="2143080"/>
            <a:ext cx="24051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103_1"/>
          <p:cNvPicPr/>
          <p:nvPr/>
        </p:nvPicPr>
        <p:blipFill>
          <a:blip r:embed="rId8"/>
          <a:stretch/>
        </p:blipFill>
        <p:spPr>
          <a:xfrm>
            <a:off x="5572080" y="1714680"/>
            <a:ext cx="2714760" cy="193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9"/>
          <a:stretch/>
        </p:blipFill>
        <p:spPr>
          <a:xfrm>
            <a:off x="0" y="5084640"/>
            <a:ext cx="1619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565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спределите  животных  на группы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5880" y="1213920"/>
            <a:ext cx="381168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14920" y="1142640"/>
            <a:ext cx="3884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flamingo"/>
          <p:cNvPicPr/>
          <p:nvPr/>
        </p:nvPicPr>
        <p:blipFill>
          <a:blip r:embed="rId1"/>
          <a:stretch/>
        </p:blipFill>
        <p:spPr>
          <a:xfrm>
            <a:off x="1214280" y="2357280"/>
            <a:ext cx="1873440" cy="13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75464940_morzh"/>
          <p:cNvPicPr/>
          <p:nvPr/>
        </p:nvPicPr>
        <p:blipFill>
          <a:blip r:embed="rId2"/>
          <a:stretch/>
        </p:blipFill>
        <p:spPr>
          <a:xfrm>
            <a:off x="1214280" y="4286160"/>
            <a:ext cx="1849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292447266_image037"/>
          <p:cNvPicPr/>
          <p:nvPr/>
        </p:nvPicPr>
        <p:blipFill>
          <a:blip r:embed="rId3"/>
          <a:stretch/>
        </p:blipFill>
        <p:spPr>
          <a:xfrm>
            <a:off x="6715080" y="421488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4_animals_to_resurrect_11"/>
          <p:cNvPicPr/>
          <p:nvPr/>
        </p:nvPicPr>
        <p:blipFill>
          <a:blip r:embed="rId4"/>
          <a:stretch/>
        </p:blipFill>
        <p:spPr>
          <a:xfrm>
            <a:off x="6643800" y="221472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archaeo_animals_09"/>
          <p:cNvPicPr/>
          <p:nvPr/>
        </p:nvPicPr>
        <p:blipFill>
          <a:blip r:embed="rId5"/>
          <a:stretch/>
        </p:blipFill>
        <p:spPr>
          <a:xfrm>
            <a:off x="3924360" y="4365720"/>
            <a:ext cx="199368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6"/>
          <a:stretch/>
        </p:blipFill>
        <p:spPr>
          <a:xfrm>
            <a:off x="0" y="515772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626"/>
          <p:cNvPicPr/>
          <p:nvPr/>
        </p:nvPicPr>
        <p:blipFill>
          <a:blip r:embed="rId7"/>
          <a:stretch/>
        </p:blipFill>
        <p:spPr>
          <a:xfrm>
            <a:off x="3924360" y="227664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897 L -0.60052 -0.05897 E">
                                      <p:cBhvr>
                                        <p:cTn id="214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8 -0.1353 L -0.60834 -0.1353 E">
                                      <p:cBhvr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1841E-006 L -0.29931 0.07354 E">
                                      <p:cBhvr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1966 L 0.54167 -0.12466 E">
                                      <p:cBhvr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837 0.06683 L 0.53837 0.39986 E">
                                      <p:cBhvr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21 L 0.25 -0.0421 E">
                                      <p:cBhvr>
                                        <p:cTn id="22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"/>
          <p:cNvPicPr/>
          <p:nvPr/>
        </p:nvPicPr>
        <p:blipFill>
          <a:blip r:embed="rId1"/>
          <a:stretch/>
        </p:blipFill>
        <p:spPr>
          <a:xfrm>
            <a:off x="0" y="3675240"/>
            <a:ext cx="2987640" cy="318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746760" y="4076640"/>
            <a:ext cx="2397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«Любимые животные»-  Издательство «Русич» , Смоленск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А. Алексеев «300 вопросов и ответов о животных»- Ярославль «Академия Развития»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821880"/>
            <a:ext cx="8424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vestnikk.ru/uploads/posts/2010-06/slo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http://shkola.ostriv.in.ua/images/publications/4/14411/135575513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р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Http://vospitatel.com.ua/images/krot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к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http://img32.vkrugudruzei.ru/images/119/849/24/29726f3a3f1346e69624689c37ac56f2_me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л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http://katyaburg.ru/sites/default/files/pictures/zabavnie_jivotnie/volk_volki_kartinki_foto_04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http://img.amigos.lv/img/qna_a/0/34/6540/w8FKVRvqMyZo8Gfda.jpe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осё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http://fomchenkov.ru/photogallery/00147big_makr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http://kamchatsky-krai.ru/bear/i/10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http://upload.wikimedia.org/wikipedia/commons/thumb/4/48/Aedes_aegypti_biting_human.jpg/275px-Aedes_aegypti_biting_huma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м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http://zhivayapriroda.ru/images/fauna/flaming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http://img0.liveinternet.ru/images/attach/c/3/75/464/75464940_morzh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2"/>
              </a:rPr>
              <a:t>http://vladnews.ru/thumb.php?file=/uploads/2010/11/09/626.jpg&amp;x_width=24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3"/>
              </a:rPr>
              <a:t>http://murzim.ru/uploads/posts/2010-12/1292447266_image03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морская к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4"/>
              </a:rPr>
              <a:t>http://facepla.net/images/stories2/443/14_animals_to_resurrect/14_animals_to_resurrect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олуб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5"/>
              </a:rPr>
              <a:t>http://natureworld.ru/misc/archeo/arch_animals/archaeo_animals_0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ро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6"/>
              </a:rPr>
              <a:t>http://www.koipkro.kostroma.ru/Sharya/shool7/DocLib74/01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edsovet.su/load/321-1-0-13661- шаблон презентации(Зинина Светлана Александров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1narodna.com/images/catalog/medium/05d6ee59ca9a1a40962e29296823240d.jpg.jpg -антил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ject66.vietchuyen.org/images/thumbnails/t4243290_160x120.jp- носор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to-takoy.ru/wp-content/uploads/2010/03/tyl005-150x150.jpg - верблю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nfoarena.ru/infoa_files/imagecache/240x180/users/931/0007374894p-1280x1024.jpg -лек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remyazabav.ru/zanimatelno/rebusi/rebusi-slova/95-rebusi-pro-zivotnih.html- реб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60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гом по мир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 вопрос - один от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50920" y="3543480"/>
            <a:ext cx="3214440" cy="33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чем слону длинный хобо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8000" y="3789000"/>
            <a:ext cx="677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бот слона- это не только нос, но и ловкая «рука».  С помощью хобота он может брать предметы, рвать траву и пи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lon"/>
          <p:cNvPicPr/>
          <p:nvPr/>
        </p:nvPicPr>
        <p:blipFill>
          <a:blip r:embed="rId1"/>
          <a:stretch/>
        </p:blipFill>
        <p:spPr>
          <a:xfrm>
            <a:off x="2556000" y="115920"/>
            <a:ext cx="391464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0" y="4648320"/>
            <a:ext cx="20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3572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Руси принято грозиться: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 Я тебе покажу, где раки зимуют!» 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де же зимуют рак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6840" y="4292280"/>
            <a:ext cx="7572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и зимуют на самом дне водоёма, в  глубокой яме: одни- в иле, другие под утонувшими сучьями.  На дне вода теплее – вот и собираются там р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355755132"/>
          <p:cNvPicPr/>
          <p:nvPr/>
        </p:nvPicPr>
        <p:blipFill>
          <a:blip r:embed="rId2"/>
          <a:stretch/>
        </p:blipFill>
        <p:spPr>
          <a:xfrm>
            <a:off x="2630520" y="130320"/>
            <a:ext cx="3798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49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 ком говорят:« Трудится не открывая глаз и не покладая рук»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4797360"/>
            <a:ext cx="763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роте.  Длина его всего 10-15 см, вес до 100 г. Крот  выносит на поверхность до 10 тонн земли за год.  Настоящая      землероечная маш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krot5"/>
          <p:cNvPicPr/>
          <p:nvPr/>
        </p:nvPicPr>
        <p:blipFill>
          <a:blip r:embed="rId1"/>
          <a:stretch/>
        </p:blipFill>
        <p:spPr>
          <a:xfrm>
            <a:off x="2700360" y="189000"/>
            <a:ext cx="3816360" cy="28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0" y="5000760"/>
            <a:ext cx="1859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2285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Яд каких животных используется в медицин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8498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меиный, пчелиный, лягуша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змеи яд на зубах, у лягушек- на к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пчелы- на кончике 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78620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лекарство аллохол"/>
          <p:cNvPicPr/>
          <p:nvPr/>
        </p:nvPicPr>
        <p:blipFill>
          <a:blip r:embed="rId2"/>
          <a:stretch/>
        </p:blipFill>
        <p:spPr>
          <a:xfrm>
            <a:off x="2700360" y="189000"/>
            <a:ext cx="3535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о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5001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размыслим не спе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- три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правильный!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-отв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зелё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340000" cy="24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7358040" y="47862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0" y="4214880"/>
            <a:ext cx="2571840" cy="267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чем змеи язык показываю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-конечная звезда 9"/>
          <p:cNvSpPr/>
          <p:nvPr/>
        </p:nvSpPr>
        <p:spPr>
          <a:xfrm>
            <a:off x="2786040" y="17146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зн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-конечная звезда 9"/>
          <p:cNvSpPr/>
          <p:nvPr/>
        </p:nvSpPr>
        <p:spPr>
          <a:xfrm>
            <a:off x="2843280" y="3357720"/>
            <a:ext cx="3313080" cy="1150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обы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9"/>
          <p:cNvSpPr/>
          <p:nvPr/>
        </p:nvSpPr>
        <p:spPr>
          <a:xfrm>
            <a:off x="2916360" y="4941720"/>
            <a:ext cx="3240000" cy="1295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уют температуру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акая птица самая маленька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-конечная звезда 9"/>
          <p:cNvSpPr/>
          <p:nvPr/>
        </p:nvSpPr>
        <p:spPr>
          <a:xfrm>
            <a:off x="320364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-конечная звезда 9"/>
          <p:cNvSpPr/>
          <p:nvPr/>
        </p:nvSpPr>
        <p:spPr>
          <a:xfrm>
            <a:off x="3132000" y="3284640"/>
            <a:ext cx="324036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2-конечная звезда 9"/>
          <p:cNvSpPr/>
          <p:nvPr/>
        </p:nvSpPr>
        <p:spPr>
          <a:xfrm>
            <a:off x="3203640" y="494172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п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Елена Громова</cp:lastModifiedBy>
  <dcterms:modified xsi:type="dcterms:W3CDTF">2017-10-23T17:50:34Z</dcterms:modified>
  <cp:revision>149</cp:revision>
  <dc:subject/>
  <dc:title>Слайд 1</dc:title>
</cp:coreProperties>
</file>